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CA3E-54BC-474C-856A-BB5902B45EB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6E4F-3DE7-47C7-A2C3-3144923670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4EED-F436-4487-A29B-BDA39F3DE1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73E4E-0762-4A30-B607-DBDAD167C9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5754-E82C-4F6F-B325-2BBE736A843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FC10-2413-4998-AC42-4B0E2188C8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CFFA-0EDA-4175-82B7-B779CAB793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F38F-C6C2-4549-AC87-AC517420FD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6AAA-5C57-4586-AD0C-CEA0B39BEE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F88A-89F1-48D7-A7C7-07AA195C2D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3313-76FC-4ECA-9C9B-A38A8013F5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BC8C-3AAE-4738-BDE5-271354CACFA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CC31-8C8B-4D60-8E3C-E88BEF8476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CFF6-EBD6-4CEE-9ACA-B9E3B985EE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819D-8024-477F-8D8C-05A842C6FDD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F3E3-C5A8-4215-8228-197868EC10F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DD9F-E17E-4A34-8189-C7998AFE5B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8A19-96FB-4826-9431-10DA309E47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52E1-3A89-4A2E-8BBF-7458A4D9BD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9A39-5F3F-49BC-885D-FD48CC2C9E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4CA8-02D1-4D5E-93B7-21C595CDE8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0708-20EA-441F-B3CA-8D57FEBFC2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AB93-75E4-49A2-86BA-F2EE389D6B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D49D-6D7C-4A52-A46C-E69F782A7D9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B784-3148-43E8-A5AD-56D7D61E26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5FA1-E787-452C-BF26-421A2019CB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F3D-3E63-4343-8BCC-B5B0EC5E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8C6-0326-4650-B162-5B2F6870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B31D-FA98-4074-936E-37279B5F0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C48-8E27-4926-8FB5-C4C50C44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60F-8C4D-4892-A9B6-6C4F4CCE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5D0-62B3-40F2-ABED-B19BBFAE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B042-458D-4F8D-A3CD-AB5950F9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1530-A252-4B3C-BA64-5A9E3D9A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4EA-F1E3-47DA-8745-C32F1233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78F6-5A78-4FE1-9908-83E59DB3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501-FFEA-4724-A3B3-6B751B42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4DC-40F2-44CE-B342-9E7782CC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DCF3-2FBF-4C15-9CEC-2ED83D77E33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77 a 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11. 12. 2012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6.   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projektu podle bodu 15 části II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Změny ve způsobu provádění klíčových aktivit a klíčových pozic realizačního týmu – v případě, že bod 15 části II Rozhodnutí se odkazuje na klíčové aktivity a realizační tý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197000"/>
          <a:ext cx="8207280" cy="507528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uditorská zpráva </a:t>
                      </a:r>
                      <a:r>
                        <a:rPr b="1" lang="cs-CZ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(pouze pokud je povinnost provést audit stanovená v Rozhodnutí o poskytnutí dotac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8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datem podpisu oprávněné osoby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auditora (v případě povinnosti provést aud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, čase a odvětví obvyklých (dostupné na www.esfcr.cz, součástí výzv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12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1:  (9:05 – 10:00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(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 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2: (cca 10:10 – 12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 náklady, partnerství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itorovací indiká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:0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3:  ( cca 12:30 – 13:40</a:t>
            </a:r>
            <a:r>
              <a:rPr b="1" i="1" lang="cs-CZ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+ 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Přestávka ( cca 1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3:4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i="1" lang="en-US" sz="14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Blok 4: </a:t>
            </a: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(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cca od 13:5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eřejná podpora - de minim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1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907920"/>
            <a:ext cx="82296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Dva typy partnerstv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s finančním příspěvke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přijímá prostřednictvím příjemce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část finanční podpory na realizaci věcných projektových aktivi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artner bez finančního příspěvku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– tento typ partnera se podílí na realizaci věcných aktivit projektu, např. formou konzultací, odborné garance apod., ale není mu poskytován </a:t>
            </a:r>
            <a:r>
              <a:rPr b="1" lang="pl-PL" sz="2000" spc="-1" strike="noStrike">
                <a:solidFill>
                  <a:srgbClr val="143f7e"/>
                </a:solidFill>
                <a:latin typeface="Arial"/>
              </a:rPr>
              <a:t>žádný finanční příspěvek za účast na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artnerství (2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765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s českými partn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i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cování zahraničních partne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r je vždy partnerem bez finančního příspěv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  <a:ea typeface="Arial"/>
              </a:rPr>
              <a:t>Zahraniční partneři si musí sami zajistit financování aktivit, k jejichž zajištění se zavazují v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ě o mezinárodní spoluprá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(kromě zdrojů z ESF i jiné zdroje financování, např. vlastní zdroje, národní financování nebo jiný druh financování z rozpočtu EU)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Zdroje financování zahraniční partner už dále nedoklád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ýjimka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– způsobilými výdaji mohou být výdaje na cestovné, ubytování a stravu (</a:t>
            </a: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Per-diems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) v případě, že zahraniční partner např. prezentuje na mezinárodní konferenci v ČR nebo jiným způsobem předává zkušenosti partnerům v ČR, podrobněji viz Metodika způsobilých výdajů OP LZZ (D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Neplnění závazků /odstoupení zahraničního partnera u projektů v 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blasti podpory 5.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dstatná změna projektu, musí být schvá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souzení další smysluplnosti a realizovatelnosti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143f7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odstoupení zahraničního partnera = ukončen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smí být zaúčtovány společně s přímými nákl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6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 – D2 (kapitola 14.) a D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5.3 části II Rozhodnutí o poskytnutí dotace a Příručkou pro příjemce (D2) a Pokyny pro vyplnění MZ (D1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4 měsíců realizace projektu (1. – 4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1. – 3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2. Průběžná monitorovací zpráv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77 (3.kolo)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dalších 3 měsíců realizace projektu (5. - 7. měsíc), předkládá se do 15-ti kalendářních dnů od ukončeného monitorovacího obdob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 </a:t>
            </a:r>
            <a:r>
              <a:rPr b="1" lang="cs-CZ" sz="15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Výzva č. 88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období prvních 3 měsíců realizace projektu (4. – 6. měsíc), předkládá se do 15-ti kalendářních dnů od ukončeného monitorovacího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. měsíců realizace projektu, předkládá se do 30-ti kalendářních dnů od ukončeného monitorovacího období. V případě domluvy s kontaktní osobou je možné předložit </a:t>
            </a: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za kratší sledované obdob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y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onitorovací zprávy (průběžné, mimořádné závěrečná)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růběžná MZ, Mimořádná MZ a ZM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 el. Podobě v Benefit 7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řílohy nutné nahrát do Benefit 7+ k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zprávy poskytovateli podpory nikoliv datum odeslání zás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růběžná MZ, Mimořádná MZ a Z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03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1. a 2. část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Předchoz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ska.dobra</cp:lastModifiedBy>
  <dcterms:modified xsi:type="dcterms:W3CDTF">2012-12-19T09:13:43Z</dcterms:modified>
  <cp:revision>410</cp:revision>
  <dc:subject/>
  <dc:title>Snímek 1</dc:title>
</cp:coreProperties>
</file>